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932-D751-47E2-9B5B-671000DC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536-460E-44F9-A46A-451B72D0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347-AD00-4137-8EEB-52C4FC96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70B-4330-4446-BB1F-6A04D77E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46D1-C981-46BA-9140-E0B1FC28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E666-D043-4DD2-87D9-3D3DDA22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0D84-B35E-41D0-B11E-A360C378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6FD8-88A4-4BB7-B33E-6C4714B4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9C1F-1849-46EB-8558-36BF78AA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9B29-DD7B-442C-9862-231237BD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7754-92E3-4BE5-8ED4-66D9BB66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5CF-E086-4094-8511-2AE2BD03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8CBA-6687-4B17-A48B-83924134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D6BD-AAEA-431D-B2D2-94C6B247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AA0E-A19F-401B-B8AA-28697192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9F7D-4DFF-4828-AF9B-A78FE60B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50AF-3E07-4C1E-8E77-A03F1411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A7F-EF7A-4BEE-B042-5DD4BE63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746-FE35-4445-ABC8-6112D8B0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9CE-EBA2-4C01-85D3-797A7C6C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64A-3166-41EC-A2C1-2B69A795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DA5-3F70-43F9-A384-C9EB160B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7A9-EA44-474A-A1A0-CE5962D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E43-F9F1-4168-8AD0-52B17365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3A6C-56A0-47CB-A6F0-317F22AE3A0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kko Pohjola, T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7E4F-AC11-41B7-8A7E-C48E84EA75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9EDA-68F5-41D5-85CC-4B3FAAD9B4A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kko Pohjola, T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A101-D7FD-48C2-A214-764A40CF80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53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opasnet.org/w/Ymal" TargetMode="External"/><Relationship Id="rId2" Type="http://schemas.openxmlformats.org/officeDocument/2006/relationships/hyperlink" Target="http://en.opasnet.org/w/Ymal" TargetMode="External"/><Relationship Id="rId3" Type="http://schemas.openxmlformats.org/officeDocument/2006/relationships/hyperlink" Target="http://en.opasnet.org/w/Ymal" TargetMode="External"/><Relationship Id="rId4" Type="http://schemas.openxmlformats.org/officeDocument/2006/relationships/hyperlink" Target="http://fi.opasnet.org/fi/Keskustelu:Pienhiukkasten_terveysvaikutukset_Suomessa" TargetMode="External"/><Relationship Id="rId5" Type="http://schemas.openxmlformats.org/officeDocument/2006/relationships/hyperlink" Target="http://www.hs.fi/keskustelu/thread.jspa?threadID=225548&amp;messageID=4408568" TargetMode="External"/><Relationship Id="rId6" Type="http://schemas.openxmlformats.org/officeDocument/2006/relationships/hyperlink" Target="http://fi.opasnet.org/fi/Keskustelu:H&#228;meenkyr&#246;n_j&#228;tteenpolttolaitos" TargetMode="External"/><Relationship Id="rId7" Type="http://schemas.openxmlformats.org/officeDocument/2006/relationships/hyperlink" Target="http://fi.opasnet.org/fi/Keskustelu:H&#228;meenkyr&#246;n_j&#228;tteenpolttolaitos" TargetMode="Externa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ukkoyhteistyö ja jaetun tiedon tuottamin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99B5-35A1-4618-A604-006F67B04ED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7CE3786-FD24-45A5-A85F-CD769D82E8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ukkoyhteisty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etun tiedon tuotta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skuste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imerkkej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hteenv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1B3-0BA2-4368-9181-04AFAA5747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7195A-9523-4A90-BC6A-A7DE2570AD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ukkoyhteisty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. Wikipedia, Lin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eistyötä suuren (rajaamattoman) joukon kesken ilman muodollista organisaatiorakennet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iaatteet: </a:t>
            </a: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avoimuus, vertaisuus, jakaminen ja globaali toimi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n arviointi ja Opasnet tarkoitettu tieteellisen tiedon tuottamiseen ja hyödyntämiseen yhteiskunnallisesti tärkeissä asioissa joukkoyhteistyön avu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111096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203960" y="620640"/>
            <a:ext cx="99864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44E-485E-40BD-A79E-7C2A8AE6D8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66160-425D-4FAC-A0CB-707C1F8F69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un tiedon tuottamin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ysymyksiä ja vastauksia – tarpeita ja hypoteese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kä kysymyksiä että vastauksia niihin etsitään yhteistyö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hteisen työn tulos konkretisoi jaetun tied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don kehittyminen avoimen kritiikin ja keskustelun avu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inka jäsentää rajaamattoman osallistujajoukon yhteistyö tietoa tehokkaasti tuottavaksi toiminnaks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A7D-6204-40F2-91A9-C3DF23D09D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0C157-7042-40F2-B318-C91FA3CB51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un tiedon tuottamin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400720" cy="4227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5516640"/>
            <a:ext cx="70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ukaelma kuvasta artikkelissa: </a:t>
            </a:r>
            <a:r>
              <a:rPr b="0" i="1" lang="fi-FI" sz="1200" spc="-1" strike="noStrike">
                <a:solidFill>
                  <a:srgbClr val="000000"/>
                </a:solidFill>
                <a:latin typeface="Arial"/>
              </a:rPr>
              <a:t>Harrer, A., Moskaliuk, J., Kimmerle, J., and Cress, U. 2008. Visualizing wiki-Supported knowledge building: Co-evolution of individual and collective knowledge. WikiSym 2008 Proceedings [Online]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1B3-3C19-47F6-9220-9AC83F6EB1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D8AF0-F18A-46F4-8F1F-4A7AC9173C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skustel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skustelu verkkotyötilan välityksellä tai sen tukem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vaus asiasta (kysymys, vastaushypoteesi ja perustelut) vs. keskustelu asiasta ja sen kuvauks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vu / keskustelusi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skustelumuod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ora asiasivun muokkaami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paa kommentoi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paiden kommenttien jäsentä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äsennetty argumenta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skustelun tulokset tulee huomioida kuvaussivulla heti kun (tilapäiseen) johtopäätökseen on pääs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1BD-B96D-4F16-AD11-2342A4C6EC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D91FD-21F5-465B-B223-60434ED50A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ej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paa kommentoi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Arviointi </a:t>
            </a: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2"/>
              </a:rPr>
              <a:t>YMAL:n</a:t>
            </a: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3"/>
              </a:rPr>
              <a:t> päälliköltä vaadittavista ominaisuuks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paiden kommenttien jäsentämin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enhiukkasten terveysvaikutukset, keskustelu</a:t>
            </a: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4"/>
              </a:rPr>
              <a:t> </a:t>
            </a: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5"/>
              </a:rPr>
              <a:t>HS.fi: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6"/>
              </a:rPr>
              <a:t>Keskustelu jätteenpoltosta </a:t>
            </a: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7"/>
              </a:rPr>
              <a:t>Opasnet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hteiskunnan arvot, keskustelu HS:n mielipidepalst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äsennetty argumenta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in kohderyhm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3F0-DB93-4E13-BEC9-757A2F9C90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A0986-32C6-45C9-9E4A-FE1F952E56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Yhteenvet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kkoyhteistyö toimii myös tieteellisen tiedon tuottamisessa ja sen hyödyntämisess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n arviointi ja Opasnet tarjoavat välineet keskustelun jäsentämi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iaate hyvä, välineet olemassa, käytännön kokemuksia tarvitaan lisää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voitteena tiedon saattaminen sinne missä sitä tarvitaan, silloin kun sitä tarvita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57F-278B-47B1-ACE9-5DEB7D078D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43CC5-D849-472B-8043-B121181879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1:59:40Z</dcterms:created>
  <dc:creator>ctep</dc:creator>
  <dc:description/>
  <dc:language>en-US</dc:language>
  <cp:lastModifiedBy>ctep</cp:lastModifiedBy>
  <dcterms:modified xsi:type="dcterms:W3CDTF">2010-02-14T19:00:13Z</dcterms:modified>
  <cp:revision>11</cp:revision>
  <dc:subject>suomi</dc:subject>
  <dc:title>Joukkoyhteistyö ja tiedon jakaminen</dc:title>
</cp:coreProperties>
</file>